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4070520" y="8672400"/>
            <a:ext cx="2133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2010 Carnegie Mellon Univers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400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1"/>
          <p:cNvSpPr/>
          <p:nvPr/>
        </p:nvSpPr>
        <p:spPr>
          <a:xfrm>
            <a:off x="6220800" y="8813880"/>
            <a:ext cx="788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C34FA3A-98FA-44FB-958F-F498C0DD8E1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2"/>
          <p:cNvSpPr/>
          <p:nvPr/>
        </p:nvSpPr>
        <p:spPr>
          <a:xfrm flipH="1">
            <a:off x="228600" y="8699400"/>
            <a:ext cx="6477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3" descr="SEI_CMU_1Line_Blk"/>
          <p:cNvPicPr/>
          <p:nvPr/>
        </p:nvPicPr>
        <p:blipFill>
          <a:blip r:embed="rId2"/>
          <a:stretch/>
        </p:blipFill>
        <p:spPr>
          <a:xfrm>
            <a:off x="260280" y="8794800"/>
            <a:ext cx="3727440" cy="22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5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872A-FC45-4DE9-8E68-44A0BFB06472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tle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tle and Subtitle text blocks should not be moved from their position if at all possi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D74B-1440-4601-A69B-1A6C836C5C08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19EF-EE2F-4617-B6C5-39A1A8710AF1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C225B8E-ABA2-46FE-A447-C58FAAEFACA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049400" y="4947840"/>
            <a:ext cx="47880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8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8 Carnegie Mellon Univers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4881-6D29-46D4-9678-696D037EB0FF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70000" y="698400"/>
            <a:ext cx="4595760" cy="34480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26640" y="4946400"/>
            <a:ext cx="5079960" cy="35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8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8 Carnegie Mellon Univers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2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3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536F-41B4-428A-8E45-219D568D0F50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70000" y="698400"/>
            <a:ext cx="4595760" cy="34480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26640" y="4946400"/>
            <a:ext cx="5079960" cy="35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E09F9F7-D8B2-4356-B14B-FF98D2EFC73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AC1F-9208-4FB3-BEDA-EA1DD911C4B8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B16A-CC5F-4208-A05E-944455D8DCAF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D1A8-B136-4449-A751-291EEDEF15EE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1AA5B14-FF37-4708-BA9C-E30465B7E21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4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eeting report instructions (on page 5 of the “Meeting 1” tab) describe how to prepare the meeting notice/agenda and complete the decisions, actions, and key information sections of the meeting repo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CC1AAB9-6F8D-4A6C-A6CD-DA00896FFAD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15DC3E7-C7A2-44DA-9BDD-3411E44A7FB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1049400" y="4947840"/>
            <a:ext cx="47880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F1E9495-B470-4867-BD40-DE24C70452D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68560" y="70020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6110BE0-373E-4DA8-93E7-1E445E7313B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8560" y="70020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A97B451-F441-4BCE-A900-DFB52109CE5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E4DE183-94FF-4A3D-8F71-57982739D9B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8C340EF-6233-4517-9A2F-06A7E414D17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049400" y="4947840"/>
            <a:ext cx="47880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67827D7-11FF-494C-AC72-B5B638F17A2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92A093E-41D5-4BBA-ABE4-04F77FE2806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E2F9518-388E-46B7-B48B-C96424C2D98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02CB223-EA12-40C6-BC20-F56903E0479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3925800" y="8767800"/>
            <a:ext cx="3008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1DF4179-D2CA-47E6-A166-A7E11AE543E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4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lide and the following 3 slides are primarily for first time teams. When launching with a team that has used TSP before, these slides can be skipp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1515AA8-E263-4178-A25D-1410F7C6AE5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4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: the meeting process is described on page 4 and the meeting roles are described on page 3 of the meeting 1 section of the Launch notebo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ter going through this slide, ask for volunteers to be the timekeeper and recorder for this mee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BCFE2D1-C2D4-4EF5-A981-E57EE3F5A8D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199DCA9-5692-41BF-9BAB-7818A58D857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952640" y="604800"/>
            <a:ext cx="2811600" cy="21081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40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40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3520" y="421920"/>
            <a:ext cx="8153280" cy="178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9040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69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9040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69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421920"/>
            <a:ext cx="8153280" cy="178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6"/>
          <p:cNvSpPr/>
          <p:nvPr/>
        </p:nvSpPr>
        <p:spPr>
          <a:xfrm>
            <a:off x="8153280" y="6405480"/>
            <a:ext cx="8384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9E36-F63A-402B-A985-64D7DAF24A50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br>
              <a:rPr sz="800"/>
            </a:b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7" descr="SEI_CMU_1Line_Blk"/>
          <p:cNvPicPr/>
          <p:nvPr/>
        </p:nvPicPr>
        <p:blipFill>
          <a:blip r:embed="rId2"/>
          <a:stretch/>
        </p:blipFill>
        <p:spPr>
          <a:xfrm>
            <a:off x="233280" y="6326280"/>
            <a:ext cx="5651640" cy="336600"/>
          </a:xfrm>
          <a:prstGeom prst="rect">
            <a:avLst/>
          </a:prstGeom>
          <a:ln w="0">
            <a:noFill/>
          </a:ln>
        </p:spPr>
      </p:pic>
      <p:sp>
        <p:nvSpPr>
          <p:cNvPr id="4" name="Line 78"/>
          <p:cNvSpPr/>
          <p:nvPr/>
        </p:nvSpPr>
        <p:spPr>
          <a:xfrm>
            <a:off x="0" y="6175440"/>
            <a:ext cx="914400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5360" bIns="14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9"/>
          <p:cNvSpPr/>
          <p:nvPr/>
        </p:nvSpPr>
        <p:spPr>
          <a:xfrm>
            <a:off x="6254640" y="6318720"/>
            <a:ext cx="23558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ptember 201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010 Carnegie Mellon University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4"/>
          <p:cNvSpPr/>
          <p:nvPr/>
        </p:nvSpPr>
        <p:spPr>
          <a:xfrm>
            <a:off x="7478640" y="6410160"/>
            <a:ext cx="1665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010 Carnegie Mellon University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5" descr="SEI_CMU_1Line_Blk"/>
          <p:cNvPicPr/>
          <p:nvPr/>
        </p:nvPicPr>
        <p:blipFill>
          <a:blip r:embed="rId2"/>
          <a:stretch/>
        </p:blipFill>
        <p:spPr>
          <a:xfrm>
            <a:off x="233280" y="6326280"/>
            <a:ext cx="5651640" cy="336600"/>
          </a:xfrm>
          <a:prstGeom prst="rect">
            <a:avLst/>
          </a:prstGeom>
          <a:ln w="0">
            <a:noFill/>
          </a:ln>
        </p:spPr>
      </p:pic>
      <p:sp>
        <p:nvSpPr>
          <p:cNvPr id="44" name="Line 56"/>
          <p:cNvSpPr/>
          <p:nvPr/>
        </p:nvSpPr>
        <p:spPr>
          <a:xfrm>
            <a:off x="0" y="6175440"/>
            <a:ext cx="914400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5360" bIns="14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57"/>
          <p:cNvGrpSpPr/>
          <p:nvPr/>
        </p:nvGrpSpPr>
        <p:grpSpPr>
          <a:xfrm>
            <a:off x="20520" y="23760"/>
            <a:ext cx="4076640" cy="6124680"/>
            <a:chOff x="20520" y="23760"/>
            <a:chExt cx="4076640" cy="6124680"/>
          </a:xfrm>
        </p:grpSpPr>
        <p:sp>
          <p:nvSpPr>
            <p:cNvPr id="46" name="Freeform 58"/>
            <p:cNvSpPr/>
            <p:nvPr/>
          </p:nvSpPr>
          <p:spPr>
            <a:xfrm>
              <a:off x="20520" y="3476520"/>
              <a:ext cx="1500840" cy="155520"/>
            </a:xfrm>
            <a:custGeom>
              <a:avLst/>
              <a:gdLst/>
              <a:ahLst/>
              <a:rect l="l" t="t" r="r" b="b"/>
              <a:pathLst>
                <a:path w="1004" h="98">
                  <a:moveTo>
                    <a:pt x="1004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906" y="98"/>
                  </a:lnTo>
                  <a:lnTo>
                    <a:pt x="1004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9"/>
            <p:cNvSpPr/>
            <p:nvPr/>
          </p:nvSpPr>
          <p:spPr>
            <a:xfrm>
              <a:off x="20520" y="1612800"/>
              <a:ext cx="611280" cy="155520"/>
            </a:xfrm>
            <a:custGeom>
              <a:avLst/>
              <a:gdLst/>
              <a:ahLst/>
              <a:rect l="l" t="t" r="r" b="b"/>
              <a:pathLst>
                <a:path w="409" h="98">
                  <a:moveTo>
                    <a:pt x="311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409" y="98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0"/>
            <p:cNvSpPr/>
            <p:nvPr/>
          </p:nvSpPr>
          <p:spPr>
            <a:xfrm>
              <a:off x="20520" y="4427640"/>
              <a:ext cx="623160" cy="169920"/>
            </a:xfrm>
            <a:custGeom>
              <a:avLst/>
              <a:gdLst/>
              <a:ahLst/>
              <a:rect l="l" t="t" r="r" b="b"/>
              <a:pathLst>
                <a:path w="418" h="107">
                  <a:moveTo>
                    <a:pt x="418" y="0"/>
                  </a:moveTo>
                  <a:lnTo>
                    <a:pt x="0" y="0"/>
                  </a:lnTo>
                  <a:lnTo>
                    <a:pt x="0" y="107"/>
                  </a:lnTo>
                  <a:lnTo>
                    <a:pt x="311" y="107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1"/>
            <p:cNvSpPr/>
            <p:nvPr/>
          </p:nvSpPr>
          <p:spPr>
            <a:xfrm>
              <a:off x="20520" y="2538360"/>
              <a:ext cx="1500840" cy="155520"/>
            </a:xfrm>
            <a:custGeom>
              <a:avLst/>
              <a:gdLst/>
              <a:ahLst/>
              <a:rect l="l" t="t" r="r" b="b"/>
              <a:pathLst>
                <a:path w="1004" h="98">
                  <a:moveTo>
                    <a:pt x="906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1004" y="98"/>
                  </a:lnTo>
                  <a:lnTo>
                    <a:pt x="906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62"/>
            <p:cNvSpPr/>
            <p:nvPr/>
          </p:nvSpPr>
          <p:spPr>
            <a:xfrm>
              <a:off x="20520" y="1940040"/>
              <a:ext cx="3386520" cy="453960"/>
            </a:xfrm>
            <a:custGeom>
              <a:avLst/>
              <a:gdLst/>
              <a:ahLst/>
              <a:rect l="l" t="t" r="r" b="b"/>
              <a:pathLst>
                <a:path w="2266" h="285">
                  <a:moveTo>
                    <a:pt x="0" y="285"/>
                  </a:moveTo>
                  <a:lnTo>
                    <a:pt x="2266" y="285"/>
                  </a:lnTo>
                  <a:lnTo>
                    <a:pt x="1982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63"/>
            <p:cNvSpPr/>
            <p:nvPr/>
          </p:nvSpPr>
          <p:spPr>
            <a:xfrm>
              <a:off x="20520" y="3801960"/>
              <a:ext cx="3399840" cy="453960"/>
            </a:xfrm>
            <a:custGeom>
              <a:avLst/>
              <a:gdLst/>
              <a:ahLst/>
              <a:rect l="l" t="t" r="r" b="b"/>
              <a:pathLst>
                <a:path w="2275" h="285">
                  <a:moveTo>
                    <a:pt x="0" y="285"/>
                  </a:moveTo>
                  <a:lnTo>
                    <a:pt x="1991" y="285"/>
                  </a:lnTo>
                  <a:lnTo>
                    <a:pt x="2275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64"/>
            <p:cNvSpPr/>
            <p:nvPr/>
          </p:nvSpPr>
          <p:spPr>
            <a:xfrm>
              <a:off x="20520" y="2865600"/>
              <a:ext cx="4076640" cy="453960"/>
            </a:xfrm>
            <a:custGeom>
              <a:avLst/>
              <a:gdLst/>
              <a:ahLst/>
              <a:rect l="l" t="t" r="r" b="b"/>
              <a:pathLst>
                <a:path w="2728" h="285">
                  <a:moveTo>
                    <a:pt x="2586" y="0"/>
                  </a:moveTo>
                  <a:lnTo>
                    <a:pt x="0" y="0"/>
                  </a:lnTo>
                  <a:lnTo>
                    <a:pt x="0" y="285"/>
                  </a:lnTo>
                  <a:lnTo>
                    <a:pt x="2586" y="285"/>
                  </a:lnTo>
                  <a:lnTo>
                    <a:pt x="2728" y="142"/>
                  </a:lnTo>
                  <a:lnTo>
                    <a:pt x="2586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5"/>
            <p:cNvSpPr/>
            <p:nvPr/>
          </p:nvSpPr>
          <p:spPr>
            <a:xfrm>
              <a:off x="20520" y="4753080"/>
              <a:ext cx="2496960" cy="453960"/>
            </a:xfrm>
            <a:custGeom>
              <a:avLst/>
              <a:gdLst/>
              <a:ahLst/>
              <a:rect l="l" t="t" r="r" b="b"/>
              <a:pathLst>
                <a:path w="1671" h="285">
                  <a:moveTo>
                    <a:pt x="0" y="285"/>
                  </a:moveTo>
                  <a:lnTo>
                    <a:pt x="1386" y="285"/>
                  </a:lnTo>
                  <a:lnTo>
                    <a:pt x="1671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6"/>
            <p:cNvSpPr/>
            <p:nvPr/>
          </p:nvSpPr>
          <p:spPr>
            <a:xfrm>
              <a:off x="20520" y="5695920"/>
              <a:ext cx="1592640" cy="452520"/>
            </a:xfrm>
            <a:custGeom>
              <a:avLst/>
              <a:gdLst/>
              <a:ahLst/>
              <a:rect l="l" t="t" r="r" b="b"/>
              <a:pathLst>
                <a:path w="1066" h="284">
                  <a:moveTo>
                    <a:pt x="0" y="284"/>
                  </a:moveTo>
                  <a:lnTo>
                    <a:pt x="782" y="284"/>
                  </a:lnTo>
                  <a:lnTo>
                    <a:pt x="1066" y="0"/>
                  </a:lnTo>
                  <a:lnTo>
                    <a:pt x="0" y="0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7"/>
            <p:cNvSpPr/>
            <p:nvPr/>
          </p:nvSpPr>
          <p:spPr>
            <a:xfrm>
              <a:off x="20520" y="23760"/>
              <a:ext cx="1619640" cy="453960"/>
            </a:xfrm>
            <a:custGeom>
              <a:avLst/>
              <a:gdLst/>
              <a:ahLst/>
              <a:rect l="l" t="t" r="r" b="b"/>
              <a:pathLst>
                <a:path w="1084" h="285">
                  <a:moveTo>
                    <a:pt x="0" y="285"/>
                  </a:moveTo>
                  <a:lnTo>
                    <a:pt x="1084" y="285"/>
                  </a:lnTo>
                  <a:lnTo>
                    <a:pt x="800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8"/>
            <p:cNvSpPr/>
            <p:nvPr/>
          </p:nvSpPr>
          <p:spPr>
            <a:xfrm>
              <a:off x="20520" y="974880"/>
              <a:ext cx="2510640" cy="453960"/>
            </a:xfrm>
            <a:custGeom>
              <a:avLst/>
              <a:gdLst/>
              <a:ahLst/>
              <a:rect l="l" t="t" r="r" b="b"/>
              <a:pathLst>
                <a:path w="1680" h="285">
                  <a:moveTo>
                    <a:pt x="0" y="285"/>
                  </a:moveTo>
                  <a:lnTo>
                    <a:pt x="1680" y="285"/>
                  </a:lnTo>
                  <a:lnTo>
                    <a:pt x="1395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67080" y="2293920"/>
            <a:ext cx="426744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unching a TSPm Proj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267080" y="3894120"/>
            <a:ext cx="4267440" cy="17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Engineering In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h, PA  152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Basic Launch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025640" y="1389240"/>
            <a:ext cx="144756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1.  Establis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roduct 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usiness go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1025640" y="2685960"/>
            <a:ext cx="144756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2.  Assign ro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defin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eam go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2778120" y="1389240"/>
            <a:ext cx="144792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il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all 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ar-term pla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2778120" y="2685960"/>
            <a:ext cx="144792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5.  Develo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qualit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a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778120" y="3979800"/>
            <a:ext cx="144792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6.  Build individu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consolidat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a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171288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354024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3540240" y="36752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V="1">
            <a:off x="2627280" y="1922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2627280" y="192240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4606920" y="1389240"/>
            <a:ext cx="144792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7.  Conduc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i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ssess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4606920" y="2685960"/>
            <a:ext cx="144792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8.  Prepa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riefing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unch 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6512040" y="2685960"/>
            <a:ext cx="144756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unc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ostmort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36904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719784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 flipV="1">
            <a:off x="4454640" y="1922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4454640" y="1922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 flipH="1">
            <a:off x="3540240" y="5199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4"/>
          <p:cNvSpPr/>
          <p:nvPr/>
        </p:nvSpPr>
        <p:spPr>
          <a:xfrm flipV="1">
            <a:off x="3540240" y="4970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6"/>
          <p:cNvSpPr/>
          <p:nvPr/>
        </p:nvSpPr>
        <p:spPr>
          <a:xfrm>
            <a:off x="6512040" y="1389240"/>
            <a:ext cx="144756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9.  H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vi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7"/>
          <p:cNvSpPr/>
          <p:nvPr/>
        </p:nvSpPr>
        <p:spPr>
          <a:xfrm flipV="1">
            <a:off x="6359400" y="1922040"/>
            <a:ext cx="0" cy="19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8"/>
          <p:cNvSpPr/>
          <p:nvPr/>
        </p:nvSpPr>
        <p:spPr>
          <a:xfrm>
            <a:off x="6359400" y="1922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9"/>
          <p:cNvSpPr/>
          <p:nvPr/>
        </p:nvSpPr>
        <p:spPr>
          <a:xfrm flipH="1">
            <a:off x="5368680" y="390204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0"/>
          <p:cNvSpPr/>
          <p:nvPr/>
        </p:nvSpPr>
        <p:spPr>
          <a:xfrm flipV="1">
            <a:off x="5369040" y="3675240"/>
            <a:ext cx="0" cy="22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1"/>
          <p:cNvSpPr/>
          <p:nvPr/>
        </p:nvSpPr>
        <p:spPr>
          <a:xfrm>
            <a:off x="1025640" y="3979800"/>
            <a:ext cx="144756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.  Produc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evelop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rateg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proc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2"/>
          <p:cNvSpPr/>
          <p:nvPr/>
        </p:nvSpPr>
        <p:spPr>
          <a:xfrm>
            <a:off x="1712880" y="36752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3"/>
          <p:cNvSpPr/>
          <p:nvPr/>
        </p:nvSpPr>
        <p:spPr>
          <a:xfrm flipV="1">
            <a:off x="1712880" y="4970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4"/>
          <p:cNvSpPr/>
          <p:nvPr/>
        </p:nvSpPr>
        <p:spPr>
          <a:xfrm flipH="1">
            <a:off x="1712880" y="5199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4714920" y="4159080"/>
            <a:ext cx="42390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 TSP coach guides the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hrough a defined process to devel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ts plan and to negotiate that plan with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manage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ross-Team Launch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45960" y="971640"/>
            <a:ext cx="144792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1.  Establis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roduct 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usiness go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04920" y="2666880"/>
            <a:ext cx="144756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2.  Assign ro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defin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eam go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098800" y="971640"/>
            <a:ext cx="144756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il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all 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ar-term pla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098800" y="2190600"/>
            <a:ext cx="144756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5.  Develo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qualit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a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927600" y="971640"/>
            <a:ext cx="144756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6.  Build individu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consolidat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a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955800" y="19620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2784600" y="196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2"/>
          <p:cNvSpPr/>
          <p:nvPr/>
        </p:nvSpPr>
        <p:spPr>
          <a:xfrm>
            <a:off x="4689360" y="356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3"/>
          <p:cNvSpPr/>
          <p:nvPr/>
        </p:nvSpPr>
        <p:spPr>
          <a:xfrm flipV="1">
            <a:off x="1946160" y="1504440"/>
            <a:ext cx="0" cy="449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1947960" y="150480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4003560" y="3790800"/>
            <a:ext cx="144792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7.  Conduc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i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ssess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5756400" y="971640"/>
            <a:ext cx="1447560" cy="9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8.  Prepa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riefing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unch 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8"/>
          <p:cNvSpPr/>
          <p:nvPr/>
        </p:nvSpPr>
        <p:spPr>
          <a:xfrm>
            <a:off x="7467480" y="990720"/>
            <a:ext cx="1447920" cy="988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unc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ostmort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"/>
          <p:cNvSpPr/>
          <p:nvPr/>
        </p:nvSpPr>
        <p:spPr>
          <a:xfrm flipV="1">
            <a:off x="3774960" y="150480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"/>
          <p:cNvSpPr/>
          <p:nvPr/>
        </p:nvSpPr>
        <p:spPr>
          <a:xfrm>
            <a:off x="3774960" y="15048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 flipH="1">
            <a:off x="2860560" y="5772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 flipV="1">
            <a:off x="2860560" y="5543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6"/>
          <p:cNvSpPr/>
          <p:nvPr/>
        </p:nvSpPr>
        <p:spPr>
          <a:xfrm>
            <a:off x="5756400" y="2190600"/>
            <a:ext cx="144756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9.  H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vi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7"/>
          <p:cNvSpPr/>
          <p:nvPr/>
        </p:nvSpPr>
        <p:spPr>
          <a:xfrm flipV="1">
            <a:off x="5603760" y="150444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8"/>
          <p:cNvSpPr/>
          <p:nvPr/>
        </p:nvSpPr>
        <p:spPr>
          <a:xfrm>
            <a:off x="5603760" y="15048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9"/>
          <p:cNvSpPr/>
          <p:nvPr/>
        </p:nvSpPr>
        <p:spPr>
          <a:xfrm flipH="1">
            <a:off x="4689360" y="5848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0"/>
          <p:cNvSpPr/>
          <p:nvPr/>
        </p:nvSpPr>
        <p:spPr>
          <a:xfrm flipV="1">
            <a:off x="4689360" y="5619240"/>
            <a:ext cx="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1"/>
          <p:cNvSpPr/>
          <p:nvPr/>
        </p:nvSpPr>
        <p:spPr>
          <a:xfrm>
            <a:off x="345960" y="3943440"/>
            <a:ext cx="144792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.  Produc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evelop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rateg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proc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2"/>
          <p:cNvSpPr/>
          <p:nvPr/>
        </p:nvSpPr>
        <p:spPr>
          <a:xfrm>
            <a:off x="1031760" y="36385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3"/>
          <p:cNvSpPr/>
          <p:nvPr/>
        </p:nvSpPr>
        <p:spPr>
          <a:xfrm flipH="1" flipV="1">
            <a:off x="1031400" y="4933800"/>
            <a:ext cx="180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4"/>
          <p:cNvSpPr/>
          <p:nvPr/>
        </p:nvSpPr>
        <p:spPr>
          <a:xfrm flipH="1">
            <a:off x="1033560" y="600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5"/>
          <p:cNvSpPr/>
          <p:nvPr/>
        </p:nvSpPr>
        <p:spPr>
          <a:xfrm>
            <a:off x="5791320" y="3962520"/>
            <a:ext cx="30477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 TSP coach guides the team through a defined process to develop its plan and to negotiate that plan with manage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0"/>
          <p:cNvSpPr/>
          <p:nvPr/>
        </p:nvSpPr>
        <p:spPr>
          <a:xfrm>
            <a:off x="193680" y="1886040"/>
            <a:ext cx="1676520" cy="76176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1A. Team Strateg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Sub-team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responsibilities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40"/>
          <p:cNvSpPr/>
          <p:nvPr/>
        </p:nvSpPr>
        <p:spPr>
          <a:xfrm>
            <a:off x="193680" y="5010120"/>
            <a:ext cx="1676520" cy="838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3A. Leadership team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Review and resolve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issues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6442200" y="196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40"/>
          <p:cNvSpPr/>
          <p:nvPr/>
        </p:nvSpPr>
        <p:spPr>
          <a:xfrm>
            <a:off x="2022480" y="3181320"/>
            <a:ext cx="1676520" cy="838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5A. Leadership team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Review and resolve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issues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40"/>
          <p:cNvSpPr/>
          <p:nvPr/>
        </p:nvSpPr>
        <p:spPr>
          <a:xfrm>
            <a:off x="2022480" y="3943440"/>
            <a:ext cx="1676520" cy="838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5B. Planning manager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Identify dependencies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40"/>
          <p:cNvSpPr/>
          <p:nvPr/>
        </p:nvSpPr>
        <p:spPr>
          <a:xfrm>
            <a:off x="2098800" y="4705200"/>
            <a:ext cx="1676160" cy="8384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5C. Quality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managers consolidate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quality plan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40"/>
          <p:cNvSpPr/>
          <p:nvPr/>
        </p:nvSpPr>
        <p:spPr>
          <a:xfrm>
            <a:off x="3851280" y="2724120"/>
            <a:ext cx="1676520" cy="838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6B. Planning manager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Consolidate team plan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40"/>
          <p:cNvSpPr/>
          <p:nvPr/>
        </p:nvSpPr>
        <p:spPr>
          <a:xfrm>
            <a:off x="3851280" y="1962000"/>
            <a:ext cx="1676520" cy="8384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6A. Leadership team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Review and resolve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issu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40"/>
          <p:cNvSpPr/>
          <p:nvPr/>
        </p:nvSpPr>
        <p:spPr>
          <a:xfrm>
            <a:off x="3851280" y="4781520"/>
            <a:ext cx="1676520" cy="838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7A. Leadership team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Resolve issu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Plan final meeting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 flipV="1">
            <a:off x="7315200" y="1523880"/>
            <a:ext cx="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>
            <a:off x="7315200" y="1523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H="1">
            <a:off x="6400800" y="3429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V="1">
            <a:off x="6400800" y="3200040"/>
            <a:ext cx="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1: Establishing Product and Business Go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step in the TSP launch is for senior management and a marketing (or a customer) representative to tell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what they want the team to develop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when the product is needed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resources available to the team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team’s flexibility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why the job is importan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ow management will measure succes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Outcom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Business need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Management goal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roduct requiremen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rained resourc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rocess asse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Historical data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SP Coach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8648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Quantitative team goals linked to business needs, management goals, and product requiremen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eam role manager assignments for self-directed team and objective evaluation of adherence to plan and proces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List of key features, requirements, and work produc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yclic product development strategy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Size estimate for each work produ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Outcom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52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ailored process for each work produ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ask plan for each work product based on the tailored proces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Effort estimate for each task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Estimated schedule of available resourc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Earned value plan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Milestones for schedule-based product and business objectiv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Quantitative quality plan to meet product and business objectiv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8648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Quantitative product and process quality criteria for controlling phase entry and exit for each work produ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Risk assessment and mitigation plan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ssigned resource for every business and product objective, work product, task, goal, and risk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Overall plan to end of proje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Detailed next-cycle plan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lternative plan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pproved plan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c4f82"/>
                </a:solidFill>
                <a:latin typeface="Arial"/>
              </a:rPr>
              <a:t>Empowered and committed team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Meeting’s Agend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launch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: the business need for the proje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rketing: the desired produ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228600" y="20574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: The business need for the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33520" y="1294920"/>
            <a:ext cx="81532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: The desired produ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33520" y="1294920"/>
            <a:ext cx="81532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up Sli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33520" y="1294920"/>
            <a:ext cx="81532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eting 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SP meeting should have an agenda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describes the meeting’s purpos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ists the attende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gives the topics and their planned tim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names the discussion leader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genda for this meeting is under the tab “Meeting 1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having an agenda, you will have more productive mee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eting Re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meeting is worth holding, it is worth repo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eting report shou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be brief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ist the key decisions and conclusion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cord all planned action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ing the actions and decisions will help you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gree on what is to be done and remember to do i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eet your commitmen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2: Establishing Team Self-dir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sets its goals and picks its r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561"/>
              </a:spcAft>
              <a:buNone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starts with the goals that management stated in the opening me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views and refines these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dds team-specific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grees on the team’s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561"/>
              </a:spcAft>
              <a:buNone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divides the team management roles so each member has a role responsi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482760" y="4389480"/>
          <a:ext cx="8229600" cy="1554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Interface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3: Producing the Development Strate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76720" y="1294920"/>
            <a:ext cx="5867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looks at the project from several perspec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members define the product that they will build and how to build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onceptual design and size estimate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strategy for meeting the team’s goal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list of all the products that must be produced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rocess for doing the job right the first time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list of any support activities that must be done by the team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estimates help the team to estimate how much time the project will t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describes the strategy and process independent of schedule constra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333360" y="1344600"/>
            <a:ext cx="2486160" cy="4522680"/>
            <a:chOff x="333360" y="1344600"/>
            <a:chExt cx="2486160" cy="4522680"/>
          </a:xfrm>
        </p:grpSpPr>
        <p:sp>
          <p:nvSpPr>
            <p:cNvPr id="224" name="Rectangle 5"/>
            <p:cNvSpPr/>
            <p:nvPr/>
          </p:nvSpPr>
          <p:spPr>
            <a:xfrm>
              <a:off x="488880" y="5238720"/>
              <a:ext cx="2125800" cy="62856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6"/>
            <p:cNvSpPr/>
            <p:nvPr/>
          </p:nvSpPr>
          <p:spPr>
            <a:xfrm>
              <a:off x="536760" y="4248360"/>
              <a:ext cx="2098440" cy="7887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7"/>
            <p:cNvSpPr/>
            <p:nvPr/>
          </p:nvSpPr>
          <p:spPr>
            <a:xfrm>
              <a:off x="507960" y="3279960"/>
              <a:ext cx="2098800" cy="7905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8"/>
            <p:cNvSpPr/>
            <p:nvPr/>
          </p:nvSpPr>
          <p:spPr>
            <a:xfrm>
              <a:off x="550800" y="2311560"/>
              <a:ext cx="2097360" cy="7905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9"/>
            <p:cNvSpPr/>
            <p:nvPr/>
          </p:nvSpPr>
          <p:spPr>
            <a:xfrm>
              <a:off x="351000" y="5359320"/>
              <a:ext cx="24159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ject strateg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0"/>
            <p:cNvSpPr/>
            <p:nvPr/>
          </p:nvSpPr>
          <p:spPr>
            <a:xfrm>
              <a:off x="558720" y="4334040"/>
              <a:ext cx="20862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cess, suppor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1"/>
            <p:cNvSpPr/>
            <p:nvPr/>
          </p:nvSpPr>
          <p:spPr>
            <a:xfrm>
              <a:off x="333360" y="3362400"/>
              <a:ext cx="24732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ist of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duct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2"/>
            <p:cNvSpPr/>
            <p:nvPr/>
          </p:nvSpPr>
          <p:spPr>
            <a:xfrm>
              <a:off x="1560600" y="4070520"/>
              <a:ext cx="0" cy="164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3"/>
            <p:cNvSpPr/>
            <p:nvPr/>
          </p:nvSpPr>
          <p:spPr>
            <a:xfrm>
              <a:off x="1560600" y="5037120"/>
              <a:ext cx="0" cy="165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4"/>
            <p:cNvSpPr/>
            <p:nvPr/>
          </p:nvSpPr>
          <p:spPr>
            <a:xfrm>
              <a:off x="550800" y="2422440"/>
              <a:ext cx="208908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velopment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strateg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5"/>
            <p:cNvSpPr/>
            <p:nvPr/>
          </p:nvSpPr>
          <p:spPr>
            <a:xfrm>
              <a:off x="1573200" y="3102120"/>
              <a:ext cx="0" cy="166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6"/>
            <p:cNvSpPr/>
            <p:nvPr/>
          </p:nvSpPr>
          <p:spPr>
            <a:xfrm>
              <a:off x="523800" y="1344600"/>
              <a:ext cx="2098800" cy="789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7"/>
            <p:cNvSpPr/>
            <p:nvPr/>
          </p:nvSpPr>
          <p:spPr>
            <a:xfrm>
              <a:off x="345960" y="1428840"/>
              <a:ext cx="2473560" cy="7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Conceptual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sig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8"/>
            <p:cNvSpPr/>
            <p:nvPr/>
          </p:nvSpPr>
          <p:spPr>
            <a:xfrm>
              <a:off x="1573200" y="2133720"/>
              <a:ext cx="0" cy="166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4: Building the Overall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00400" y="114264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builds an overall plan for the entir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 are defined in sequence from project start to finish. 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follow the team’s proces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include all produc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re detailed for the next phase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ime needed to do each task is estimated based on size and productivity data or directly based on past exper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0">
              <a:lnSpc>
                <a:spcPct val="95000"/>
              </a:lnSpc>
              <a:spcAft>
                <a:spcPts val="499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 are scheduled based on the team’s available ho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overall plan appears not to satisfy management’s goals, the team may create some alternative propos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333360" y="1371600"/>
            <a:ext cx="2486160" cy="4592160"/>
            <a:chOff x="333360" y="1371600"/>
            <a:chExt cx="2486160" cy="4592160"/>
          </a:xfrm>
        </p:grpSpPr>
        <p:sp>
          <p:nvSpPr>
            <p:cNvPr id="241" name="Rectangle 5"/>
            <p:cNvSpPr/>
            <p:nvPr/>
          </p:nvSpPr>
          <p:spPr>
            <a:xfrm>
              <a:off x="351000" y="5321160"/>
              <a:ext cx="2332080" cy="64260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6"/>
            <p:cNvSpPr/>
            <p:nvPr/>
          </p:nvSpPr>
          <p:spPr>
            <a:xfrm>
              <a:off x="381240" y="4340160"/>
              <a:ext cx="2301840" cy="8074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7"/>
            <p:cNvSpPr/>
            <p:nvPr/>
          </p:nvSpPr>
          <p:spPr>
            <a:xfrm>
              <a:off x="381240" y="3350880"/>
              <a:ext cx="2301840" cy="80784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8"/>
            <p:cNvSpPr/>
            <p:nvPr/>
          </p:nvSpPr>
          <p:spPr>
            <a:xfrm>
              <a:off x="381240" y="2357280"/>
              <a:ext cx="2301840" cy="8092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9"/>
            <p:cNvSpPr/>
            <p:nvPr/>
          </p:nvSpPr>
          <p:spPr>
            <a:xfrm>
              <a:off x="373320" y="1371600"/>
              <a:ext cx="2300040" cy="80784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0"/>
            <p:cNvSpPr/>
            <p:nvPr/>
          </p:nvSpPr>
          <p:spPr>
            <a:xfrm>
              <a:off x="401760" y="5497200"/>
              <a:ext cx="222408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Overall pla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1"/>
            <p:cNvSpPr/>
            <p:nvPr/>
          </p:nvSpPr>
          <p:spPr>
            <a:xfrm>
              <a:off x="333360" y="4503600"/>
              <a:ext cx="24861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vailable tim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2"/>
            <p:cNvSpPr/>
            <p:nvPr/>
          </p:nvSpPr>
          <p:spPr>
            <a:xfrm>
              <a:off x="406440" y="3479400"/>
              <a:ext cx="223848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stimate resourc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3"/>
            <p:cNvSpPr/>
            <p:nvPr/>
          </p:nvSpPr>
          <p:spPr>
            <a:xfrm>
              <a:off x="416160" y="2517480"/>
              <a:ext cx="22971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fine task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533600" y="4159080"/>
              <a:ext cx="0" cy="167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>
              <a:off x="1533600" y="3166920"/>
              <a:ext cx="0" cy="171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6"/>
            <p:cNvSpPr/>
            <p:nvPr/>
          </p:nvSpPr>
          <p:spPr>
            <a:xfrm>
              <a:off x="1533600" y="5148000"/>
              <a:ext cx="0" cy="17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7"/>
            <p:cNvSpPr/>
            <p:nvPr/>
          </p:nvSpPr>
          <p:spPr>
            <a:xfrm>
              <a:off x="406440" y="1547640"/>
              <a:ext cx="22989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stimate siz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8"/>
            <p:cNvSpPr/>
            <p:nvPr/>
          </p:nvSpPr>
          <p:spPr>
            <a:xfrm>
              <a:off x="1524240" y="2179440"/>
              <a:ext cx="0" cy="169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5: Developing the Quality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124080" y="1294920"/>
            <a:ext cx="6019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builds a quality plan for the product that shows how the team will achieve its product quality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checks the quality plan against the goals and the overall plan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ensure that they are consistent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check for needed adjustmen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TSP, software quality during product development is measured by counting defects and normalizing by the appropriate size mea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4"/>
          <p:cNvGrpSpPr/>
          <p:nvPr/>
        </p:nvGrpSpPr>
        <p:grpSpPr>
          <a:xfrm>
            <a:off x="390600" y="1547640"/>
            <a:ext cx="1971720" cy="4014720"/>
            <a:chOff x="390600" y="1547640"/>
            <a:chExt cx="1971720" cy="4014720"/>
          </a:xfrm>
        </p:grpSpPr>
        <p:sp>
          <p:nvSpPr>
            <p:cNvPr id="258" name="Rectangle 5"/>
            <p:cNvSpPr/>
            <p:nvPr/>
          </p:nvSpPr>
          <p:spPr>
            <a:xfrm>
              <a:off x="497160" y="4846680"/>
              <a:ext cx="1752480" cy="71568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6"/>
            <p:cNvSpPr/>
            <p:nvPr/>
          </p:nvSpPr>
          <p:spPr>
            <a:xfrm>
              <a:off x="497160" y="3755880"/>
              <a:ext cx="1728720" cy="90000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7"/>
            <p:cNvSpPr/>
            <p:nvPr/>
          </p:nvSpPr>
          <p:spPr>
            <a:xfrm>
              <a:off x="520920" y="2652480"/>
              <a:ext cx="1728720" cy="9003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8"/>
            <p:cNvSpPr/>
            <p:nvPr/>
          </p:nvSpPr>
          <p:spPr>
            <a:xfrm>
              <a:off x="497160" y="1547640"/>
              <a:ext cx="1728720" cy="90180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9"/>
            <p:cNvSpPr/>
            <p:nvPr/>
          </p:nvSpPr>
          <p:spPr>
            <a:xfrm>
              <a:off x="609840" y="4930560"/>
              <a:ext cx="15825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Quality pla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0"/>
            <p:cNvSpPr/>
            <p:nvPr/>
          </p:nvSpPr>
          <p:spPr>
            <a:xfrm>
              <a:off x="617760" y="1676160"/>
              <a:ext cx="15876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Quality goal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1"/>
            <p:cNvSpPr/>
            <p:nvPr/>
          </p:nvSpPr>
          <p:spPr>
            <a:xfrm>
              <a:off x="457200" y="2781360"/>
              <a:ext cx="18846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fects injecte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2"/>
            <p:cNvSpPr/>
            <p:nvPr/>
          </p:nvSpPr>
          <p:spPr>
            <a:xfrm>
              <a:off x="390600" y="3917880"/>
              <a:ext cx="197172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fects remove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3"/>
            <p:cNvSpPr/>
            <p:nvPr/>
          </p:nvSpPr>
          <p:spPr>
            <a:xfrm>
              <a:off x="1382760" y="3552840"/>
              <a:ext cx="0" cy="188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4"/>
            <p:cNvSpPr/>
            <p:nvPr/>
          </p:nvSpPr>
          <p:spPr>
            <a:xfrm>
              <a:off x="1362240" y="2449440"/>
              <a:ext cx="0" cy="189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5"/>
            <p:cNvSpPr/>
            <p:nvPr/>
          </p:nvSpPr>
          <p:spPr>
            <a:xfrm>
              <a:off x="1362240" y="4655880"/>
              <a:ext cx="0" cy="19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6: Building Detailed Next-phase Pl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971440" y="129492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sks for the next phase are allocated to the develop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developers build their own work plans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team balances the workload so that everyone completes their next-phase tasks at approximately the same time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team merges the individual work plans to form a consolidated team plan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lan is used by the team to guide and track its work during the upcoming project 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457200" y="1523880"/>
            <a:ext cx="1903320" cy="4201560"/>
            <a:chOff x="457200" y="1523880"/>
            <a:chExt cx="1903320" cy="4201560"/>
          </a:xfrm>
        </p:grpSpPr>
        <p:sp>
          <p:nvSpPr>
            <p:cNvPr id="272" name="Oval 5"/>
            <p:cNvSpPr/>
            <p:nvPr/>
          </p:nvSpPr>
          <p:spPr>
            <a:xfrm>
              <a:off x="581040" y="1523880"/>
              <a:ext cx="1636560" cy="9190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6"/>
            <p:cNvSpPr/>
            <p:nvPr/>
          </p:nvSpPr>
          <p:spPr>
            <a:xfrm>
              <a:off x="603000" y="2649600"/>
              <a:ext cx="1635120" cy="9190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7"/>
            <p:cNvSpPr/>
            <p:nvPr/>
          </p:nvSpPr>
          <p:spPr>
            <a:xfrm>
              <a:off x="581040" y="3774960"/>
              <a:ext cx="1636560" cy="9190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8"/>
            <p:cNvSpPr/>
            <p:nvPr/>
          </p:nvSpPr>
          <p:spPr>
            <a:xfrm>
              <a:off x="591840" y="4892400"/>
              <a:ext cx="1657440" cy="73188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"/>
            <p:cNvSpPr/>
            <p:nvPr/>
          </p:nvSpPr>
          <p:spPr>
            <a:xfrm>
              <a:off x="457200" y="4944960"/>
              <a:ext cx="1903320" cy="7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Balance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la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0"/>
            <p:cNvSpPr/>
            <p:nvPr/>
          </p:nvSpPr>
          <p:spPr>
            <a:xfrm>
              <a:off x="693720" y="1689120"/>
              <a:ext cx="15033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llocate task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1"/>
            <p:cNvSpPr/>
            <p:nvPr/>
          </p:nvSpPr>
          <p:spPr>
            <a:xfrm>
              <a:off x="541080" y="2817720"/>
              <a:ext cx="17859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Individual plan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2"/>
            <p:cNvSpPr/>
            <p:nvPr/>
          </p:nvSpPr>
          <p:spPr>
            <a:xfrm>
              <a:off x="477720" y="3905280"/>
              <a:ext cx="18684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Balance workloa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3"/>
            <p:cNvSpPr/>
            <p:nvPr/>
          </p:nvSpPr>
          <p:spPr>
            <a:xfrm>
              <a:off x="1420560" y="3568680"/>
              <a:ext cx="0" cy="191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4"/>
            <p:cNvSpPr/>
            <p:nvPr/>
          </p:nvSpPr>
          <p:spPr>
            <a:xfrm>
              <a:off x="1396800" y="2442960"/>
              <a:ext cx="0" cy="192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5"/>
            <p:cNvSpPr/>
            <p:nvPr/>
          </p:nvSpPr>
          <p:spPr>
            <a:xfrm>
              <a:off x="1396800" y="4694040"/>
              <a:ext cx="0" cy="19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7: Conducting a Risk Assess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identifies and assesses the risks to its p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Each risk is assessed for impact and likelihood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itigation plans are defined for high- and medium-priority risks.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isk is assigned to a team member for investigation and trac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8: Preparing the Management 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prepares a presentation of the plan to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team’s plan does not meet management’s goals, the team includes alternative plans that ei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dd more resourc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deliver  a reduced-functionality version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start small and follow later with a fully functioned version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5000"/>
              </a:lnSpc>
              <a:spcAft>
                <a:spcPts val="561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emarks and Service Mar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are service marks of Carnegie Mellon Univers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MMI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eam Software Process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SP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</a:t>
            </a: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ersonal Software Process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SP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</a:t>
            </a: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499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499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are registered trademarks of Carnegie Mellon Univers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apability Maturity Model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MM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apability Maturity Model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r>
              <a:rPr b="0" lang="en-US" sz="1800" spc="-1" strike="noStrike" baseline="30000">
                <a:solidFill>
                  <a:srgbClr val="3c4f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Integration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MMI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ERT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Software Engineering Institu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was developed at the Software Engineering Institute (SEI), a unit of Carnegie Mellon University (CM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agreement with CMU to use the TSP materials requires that you provide data from TSP projects to the S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I will use that data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improve the TSP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provide guidelines and benchmark data to TSP users to help them plan and manage TSP projec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I will not publicize or attribute your data without your explicit permission, unless you have already published these data in a public set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We are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of this workshop is to launch your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c4f82"/>
                </a:solidFill>
                <a:latin typeface="Arial"/>
              </a:rPr>
              <a:t>performs essential planning tasks that are part of the project work</a:t>
            </a:r>
            <a:endParaRPr b="0" lang="en-US" sz="20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c4f82"/>
                </a:solidFill>
                <a:latin typeface="Arial"/>
              </a:rPr>
              <a:t>is not a course</a:t>
            </a:r>
            <a:endParaRPr b="0" lang="en-US" sz="20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first step in starting your TSP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for meeting 1 i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624"/>
              </a:spcAft>
              <a:buClr>
                <a:srgbClr val="39536b"/>
              </a:buClr>
              <a:buSzPct val="110000"/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rganizational and project management to describe the project objectives and management goals to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624"/>
              </a:spcAft>
              <a:buClr>
                <a:srgbClr val="39536b"/>
              </a:buClr>
              <a:buSzPct val="110000"/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 members to understand what the team is supposed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aunch Workshop Note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launch workshop notebook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launch schedul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andouts for each launch meeting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andout contents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eeting agenda and meeting scrip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aunch scripts and form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ecture overhead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guidelin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specification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form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scrip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SP Launch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launch is organized as a set of mee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SP meeting has roles, an agenda, and a meeting re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eting roles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Chairperson: arranges and leads the meeting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Facilitator/timekeeper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elps the team follow the agenda and the scrip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racks and notes meeting times on the agenda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corder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cords all important decisions (what and who) and planned actions (what, who, when)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verifies the actions and decisions with the meeting attendees at the end of the meeting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Meeting’s Agend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launch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: the business need for the proje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rketing: the desired produ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228600" y="12952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 of the TSP Laun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unch establishes a common team understanding of th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’s goals for the proje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eam and team members’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processes that the team will us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oles that the team members will perform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development work to be don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plan for doing the work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 and customer reporting system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ongoing team communication proces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4:55:26Z</dcterms:created>
  <dc:creator>jdm</dc:creator>
  <dc:description/>
  <dc:language>en-US</dc:language>
  <cp:lastModifiedBy>wrn_loc_adm</cp:lastModifiedBy>
  <cp:lastPrinted>2006-06-21T20:45:34Z</cp:lastPrinted>
  <dcterms:modified xsi:type="dcterms:W3CDTF">2018-09-06T00:18:06Z</dcterms:modified>
  <cp:revision>18</cp:revision>
  <dc:subject/>
  <dc:title>SEI Presentation (Basic): Preformatted Design and Template Items </dc:title>
</cp:coreProperties>
</file>